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6.png" ContentType="image/png"/>
  <Override PartName="/ppt/media/image2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3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2.jpeg" ContentType="image/jpeg"/>
  <Override PartName="/ppt/media/image38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FF12-28C3-4EF8-A1AD-59A146FA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48A0-3DDD-4F96-B43B-AB61F007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269-46EE-4F29-ACE5-53A74397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1EE-4B1A-4B44-9442-B23BEBEB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B948-EBA1-4D39-9689-4950E537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03FA-F863-4705-91B8-3B2AB72C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F899-8CAF-4197-AA1E-549FC3F8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DA67-811E-4776-B869-D97744BB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5F5E-23D9-489E-ABBB-312366A3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4D4F-5F69-4508-A3CA-0F121703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C1EB-798A-46A2-9452-02E3062F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835-278C-4CE5-93E6-C44A0B5B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EE85-9164-44E4-94A6-29C0255B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D2D7-2D4E-40C4-B6A5-70CC51D5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F449-9F8C-40A4-9F26-B0F197ED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71DD-400D-4222-8789-50B5D013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D63E-1AC2-4325-9893-8CA3E907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63DDB-C17F-4CAE-B9C6-464DCAFF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DA557-231E-44DC-93E1-10296B3D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37217-1A89-47D8-8179-3A246377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29C20-0EB6-4156-B9BE-F92B5280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9F347-492E-4D66-B3A5-0D355726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4B0-10A7-4989-8E74-0AE672D6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BF8B2-FD94-40B4-A27C-908A22DC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6C73-F5DA-4512-8F44-3CB0BEE5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DA0D3-05E6-4803-82FE-F2EF1657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2114C-5888-472F-B3DE-A9ECA096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C02D0-1204-4F28-B87D-8ABAF152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24B49-879B-476A-A4F7-66A5E9FF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5C92C-9FB3-47D4-8C7B-42F74D44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6B891-6E38-48B4-BA42-C21BC486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0A39B-C8D3-42C2-9883-953C49FE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B7E9E-0732-4B5F-954D-3350C67E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A8E6-DABA-42C1-BC3F-5C683578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A1BEE-149B-455F-A28B-A43C6B2F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5D988-3BC5-4D6B-BB26-3900BDA2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920ED-4B2E-47AA-B9E7-FF3C1A74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0331D-0D26-4EDF-98FA-62210F06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D74D9-8A66-49D9-BBAB-58F760A3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F636D-3353-4C04-A030-52EE64B3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6D08D-3A7E-4029-9E1F-DD78DFA3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61E18-3A53-4A6A-ADAF-C47CB358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95CF3-AEE4-4CBD-8087-F34EFC56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CD9-2CAE-42B0-978E-B92B12FA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8116-6164-4B77-97C9-E9EEA428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29F6-987B-48FE-8715-59CA7EA4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98C-4342-4B96-985A-6B904FDA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590-69E8-4979-9674-95A5BCF0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F2BE-9B44-433E-B6F1-95D064293D6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7249-3AFD-432C-80F9-93784290613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CEB6-C1C8-4843-ABA1-D6998419D07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A59C-F6AE-4AC5-B881-F13B87F7F57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201600" y="1341360"/>
            <a:ext cx="9358200" cy="2681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Минус 1,hight sound Очень грустная музыка, но красивая - минус,минуса,лирика.mp3" descr=""/>
          <p:cNvPicPr/>
          <p:nvPr/>
        </p:nvPicPr>
        <p:blipFill>
          <a:blip r:embed="rId2"/>
          <a:stretch/>
        </p:blipFill>
        <p:spPr>
          <a:xfrm>
            <a:off x="4429080" y="36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D:\Profiles\karasyova.ta\Рабочий стол\d8361849caf01.jpg"/>
          <p:cNvPicPr/>
          <p:nvPr/>
        </p:nvPicPr>
        <p:blipFill>
          <a:blip r:embed="rId1"/>
          <a:stretch/>
        </p:blipFill>
        <p:spPr>
          <a:xfrm>
            <a:off x="1403280" y="1484280"/>
            <a:ext cx="6408720" cy="5373720"/>
          </a:xfrm>
          <a:prstGeom prst="rect">
            <a:avLst/>
          </a:prstGeom>
          <a:ln w="0">
            <a:noFill/>
          </a:ln>
        </p:spPr>
      </p:pic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212760" y="-176040"/>
            <a:ext cx="8553240" cy="183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274680" y="262080"/>
            <a:ext cx="8491320" cy="1914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D:\Profiles\karasyova.ta\Рабочий стол\4b2ae4b97ba98f3b829188cce4718334.jpg"/>
          <p:cNvPicPr/>
          <p:nvPr/>
        </p:nvPicPr>
        <p:blipFill>
          <a:blip r:embed="rId2"/>
          <a:stretch/>
        </p:blipFill>
        <p:spPr>
          <a:xfrm>
            <a:off x="1835280" y="2349360"/>
            <a:ext cx="4997160" cy="450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212760" y="378000"/>
            <a:ext cx="8748720" cy="1688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D:\Profiles\karasyova.ta\Рабочий стол\Без названия (2).jpg"/>
          <p:cNvPicPr/>
          <p:nvPr/>
        </p:nvPicPr>
        <p:blipFill>
          <a:blip r:embed="rId2"/>
          <a:stretch/>
        </p:blipFill>
        <p:spPr>
          <a:xfrm>
            <a:off x="900000" y="2133720"/>
            <a:ext cx="6480360" cy="472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212760" y="706320"/>
            <a:ext cx="8798040" cy="1384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D:\Profiles\karasyova.ta\Рабочий стол\images (1).jpg"/>
          <p:cNvPicPr/>
          <p:nvPr/>
        </p:nvPicPr>
        <p:blipFill>
          <a:blip r:embed="rId2"/>
          <a:stretch/>
        </p:blipFill>
        <p:spPr>
          <a:xfrm>
            <a:off x="684360" y="1844640"/>
            <a:ext cx="6840360" cy="501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54936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осту безнадзорности в стране способствуют причин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ост числа асоциальных сем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изкий уровень благосостояния семь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гативный опыт отношений с родителя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D:\Profiles\karasyova.ta\Рабочий стол\Без названия.jpg"/>
          <p:cNvPicPr/>
          <p:nvPr/>
        </p:nvPicPr>
        <p:blipFill>
          <a:blip r:embed="rId1"/>
          <a:stretch/>
        </p:blipFill>
        <p:spPr>
          <a:xfrm>
            <a:off x="1763640" y="2852640"/>
            <a:ext cx="5400720" cy="400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беженцы и вынужденные переселенцы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безработные родител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естабильные браки (разводы)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3" descr="D:\Profiles\karasyova.ta\Рабочий стол\images (2).jpg"/>
          <p:cNvPicPr/>
          <p:nvPr/>
        </p:nvPicPr>
        <p:blipFill>
          <a:blip r:embed="rId1"/>
          <a:stretch/>
        </p:blipFill>
        <p:spPr>
          <a:xfrm>
            <a:off x="1692360" y="2708280"/>
            <a:ext cx="6048360" cy="414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333360"/>
            <a:ext cx="8229600" cy="59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готовность школы оказывать социально-педагогическую поддержку и сопровождение учащихся, оказавшихся в трудной жизненной ситуаци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личие у части учащихся негативного учебного опыт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2" descr="D:\Profiles\karasyova.ta\Рабочий стол\Без названия (1).jpg"/>
          <p:cNvPicPr/>
          <p:nvPr/>
        </p:nvPicPr>
        <p:blipFill>
          <a:blip r:embed="rId1"/>
          <a:stretch/>
        </p:blipFill>
        <p:spPr>
          <a:xfrm>
            <a:off x="3780000" y="2708280"/>
            <a:ext cx="5364000" cy="414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Рисунок 4" descr="4d4ea0e83adbd (1).jpg"/>
          <p:cNvPicPr/>
          <p:nvPr/>
        </p:nvPicPr>
        <p:blipFill>
          <a:blip r:embed="rId1"/>
          <a:srcRect l="0" t="1852" r="0" b="18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245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акими бы причинами ни было обусловлено попадание ребенка в категорию безнадзорных, суть заключается в том, что он попадает 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в трудную жизненую ситуацию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объективно нарушающую его жизнедеятельность (сиротство; болезнь; малообеспеченность; отсутствие определенного места жительства; конфликты в семье и школе; жестокое обращение в семье; одиночество и др.), которую он не может преодолеть самостоятельно или с помощью семьи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8" name="Содержимое 3" descr="thumb_201202070535258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225360" y="1371600"/>
            <a:ext cx="8699400" cy="3749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Роль школы в социальном воспитани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Школа как социальная среда может провоцировать различное поведение ребенка. Факторами формирования социального поведения, прежде всего, являются система отношений, школьный уклад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реди причин, по которым дети и подростки покидают школу, можно выделить следующие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54936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еподготовленность школы к работе с «проблемными» детьм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скрытый отсев»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лохое поведение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3" descr="D:\Profiles\karasyova.ta\Рабочий стол\df1f1d20ee86704251795841e6a9405a.jpg"/>
          <p:cNvPicPr/>
          <p:nvPr/>
        </p:nvPicPr>
        <p:blipFill>
          <a:blip r:embed="rId1"/>
          <a:stretch/>
        </p:blipFill>
        <p:spPr>
          <a:xfrm>
            <a:off x="2771640" y="2852640"/>
            <a:ext cx="5580360" cy="400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проблемы со здоровьем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физическое и моральное насилие учителей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3" descr="D:\Profiles\karasyova.ta\Рабочий стол\Насилие-в-школе.jpg"/>
          <p:cNvPicPr/>
          <p:nvPr/>
        </p:nvPicPr>
        <p:blipFill>
          <a:blip r:embed="rId1"/>
          <a:stretch/>
        </p:blipFill>
        <p:spPr>
          <a:xfrm>
            <a:off x="3419640" y="1844640"/>
            <a:ext cx="5724360" cy="501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успеваемость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тсутствие интереса к учебе и др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формирование у части учащихся отрицательного опыта учебы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3" descr="D:\Profiles\karasyova.ta\Рабочий стол\images (4).jpg"/>
          <p:cNvPicPr/>
          <p:nvPr/>
        </p:nvPicPr>
        <p:blipFill>
          <a:blip r:embed="rId1"/>
          <a:stretch/>
        </p:blipFill>
        <p:spPr>
          <a:xfrm>
            <a:off x="1692360" y="2492280"/>
            <a:ext cx="6264360" cy="4365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Содержимое 3" descr="imag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а сегодняшний день мы переживаем третью волну беспризорности после Гражданской и Великой Отечественной войн. Беспризорность и безнадзорность стимулируют криминализацию подростковой среды. Не достигшие совершеннолетия участвуют во взрослых преступлениях: сутенерстве, притоносодержательстве, мошеннических действиях с валютой и ценными бумагам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Содержимое 3" descr="besprizornik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entury"/>
              </a:rPr>
              <a:t>Я смогу…..я выживу….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 данным специалистов МКУ «ЦДОО г.Челябинска», СП МКУ «ЦОДОО г.Челябинска», за 2016 год обучающимися образовательных организаций города Челябинска совершен 221 самовольный уход из семьи или государственных, либо муниципальных учреждений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24000" y="2205000"/>
          <a:ext cx="8362800" cy="3932280"/>
        </p:xfrm>
        <a:graphic>
          <a:graphicData uri="http://schemas.openxmlformats.org/drawingml/2006/table">
            <a:tbl>
              <a:tblPr/>
              <a:tblGrid>
                <a:gridCol w="2303280"/>
                <a:gridCol w="1878120"/>
                <a:gridCol w="2090520"/>
                <a:gridCol w="20908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оличество несовершеннолетних, совершивших самовольный у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лини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урчато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ени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аллург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вет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акторозавод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Центр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Беспризорные дети имеют сложный социальный, медицинский и психолого-педагогический статус. Анализ проблем беспризорности привел к пониманию того, что условия, в которых живут эти дети и подростки, тормозят их социальное, физическое, умственное развитие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Содержимое 5" descr="Рисунок1.jpg"/>
          <p:cNvPicPr/>
          <p:nvPr/>
        </p:nvPicPr>
        <p:blipFill>
          <a:blip r:embed="rId1"/>
          <a:stretch/>
        </p:blipFill>
        <p:spPr>
          <a:xfrm>
            <a:off x="1547640" y="1817640"/>
            <a:ext cx="6985080" cy="504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ак выявить  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«трудного» ребенка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замкнутость, не желание общаться со сверстникам, взрослыми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систематический пропуск без уважительных причин учебных занятий в образовательной организации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бродяжничество или попрошайничество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противоправные действия и неоднократное нарушение устава государственного образовательного учреждения и Правила поведения обучающегося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неуспеваемость или оставление по неуважительным причинам на повторный курс обучения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употреблению наркотических средств или психотропных веществ без назначения врача либо других психоактивных веществ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причисление обучающегося к неформальным объединениям и организациям антиобщественной направленности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постановка на учет в ПДН ОП УМВД России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4" descr="1281701489.jpg"/>
          <p:cNvPicPr/>
          <p:nvPr/>
        </p:nvPicPr>
        <p:blipFill>
          <a:blip r:embed="rId1"/>
          <a:srcRect l="0" t="1856" r="0" b="1856"/>
          <a:stretch/>
        </p:blipFill>
        <p:spPr>
          <a:xfrm>
            <a:off x="457200" y="0"/>
            <a:ext cx="8686800" cy="63453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1280" y="213840"/>
            <a:ext cx="7921440" cy="206244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емья- вот что важнее всего, вот что заставляет биться мое сердце. 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Филиппа Грегори “Еще одна из рода Болейн”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екомендации по работе с детьми девиантного поведен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ежде всего необходим индивидуальный подход к каждому ученик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пределение форм и методов воспитательного воздействия в зависимости от конкретных условий жизни ученик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обходимо найти общий язык с ребенком, суметь разобраться с волнующими его проблема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изнать и уважать в каждом ребенке личность, способствовать свободному развитию и совершенствованию его душевного мир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ладеть методами и приемами коррекционной работы с трудными деть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ыть развивающейся и совершенствующейся личностью, ибо Личность воспитывается Личность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71360" y="713880"/>
            <a:ext cx="7615080" cy="5572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То, что способно вернуть человека к жизни, то что делает  человека счастливым, то ради чего некоторые отдают жизнь..способно погубить и уничтожить жизнь…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entury"/>
              </a:rPr>
              <a:t>Семья…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88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ебе решать какой она буде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Рисунок 5" descr="!!!.jpg"/>
          <p:cNvPicPr/>
          <p:nvPr/>
        </p:nvPicPr>
        <p:blipFill>
          <a:blip r:embed="rId1"/>
          <a:srcRect l="0" t="7442" r="0" b="7442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4" descr="933113ea114fe44e2df8bdb08893a474 (1).jpg"/>
          <p:cNvPicPr/>
          <p:nvPr/>
        </p:nvPicPr>
        <p:blipFill>
          <a:blip r:embed="rId1"/>
          <a:srcRect l="0" t="11362" r="0" b="113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76360" y="189000"/>
            <a:ext cx="5327640" cy="9144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entury"/>
              </a:rPr>
              <a:t>Такой…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Рисунок 4" descr="58143612_semya.jpg"/>
          <p:cNvPicPr/>
          <p:nvPr/>
        </p:nvPicPr>
        <p:blipFill>
          <a:blip r:embed="rId1"/>
          <a:srcRect l="0" t="12238" r="0" b="122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4941360"/>
            <a:ext cx="4427640" cy="10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Century"/>
              </a:rPr>
              <a:t>Или такой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Содержимое 3" descr="ш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06472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"/>
              </a:rPr>
              <a:t>Сделай правильный выбор))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4" descr="family.jpg"/>
          <p:cNvPicPr/>
          <p:nvPr/>
        </p:nvPicPr>
        <p:blipFill>
          <a:blip r:embed="rId1"/>
          <a:srcRect l="3846" t="0" r="384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Picture 2" descr="C:\Users\User\Desktop\семья.jpg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Заголовок 1" descr=""/>
          <p:cNvPicPr/>
          <p:nvPr/>
        </p:nvPicPr>
        <p:blipFill>
          <a:blip r:embed="rId2"/>
          <a:stretch/>
        </p:blipFill>
        <p:spPr>
          <a:xfrm>
            <a:off x="-49320" y="-103320"/>
            <a:ext cx="9315720" cy="244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457200" y="401760"/>
            <a:ext cx="8229600" cy="384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4" descr="lqnUX46v46c.jpg"/>
          <p:cNvPicPr/>
          <p:nvPr/>
        </p:nvPicPr>
        <p:blipFill>
          <a:blip r:embed="rId1"/>
          <a:srcRect l="3811" t="0" r="381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274680" y="476280"/>
            <a:ext cx="8534520" cy="597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219240" y="249120"/>
            <a:ext cx="8772480" cy="699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9:52:39Z</dcterms:created>
  <dc:creator>User</dc:creator>
  <dc:description/>
  <dc:language>en-US</dc:language>
  <cp:lastModifiedBy>Еременко Любовь Алексеевна</cp:lastModifiedBy>
  <dcterms:modified xsi:type="dcterms:W3CDTF">2017-02-14T08:26:17Z</dcterms:modified>
  <cp:revision>30</cp:revision>
  <dc:subject/>
  <dc:title>Слайд 1</dc:title>
</cp:coreProperties>
</file>